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49434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1AF-FD0F-44C9-9712-CDEC3069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954-8519-4117-91B8-B5CF06EB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23F-FE7F-4500-AFB7-D4703E76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E82-B9B8-4A55-BEB2-64861383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2EC1-72B2-44C9-BDD8-CD6FADE0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A139-35C1-4063-9718-3AB44504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37D5-8D60-4B45-BF75-6A675DB5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3015-6B67-406A-872A-47E87F9A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2BE4-60EC-4A40-B01B-8FD379FF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0F83-6F77-4CCB-B034-F46B0D57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0508-8A62-4BDD-8B4E-3C205D98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2A23-1482-45FA-8191-2978CD54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E071-9409-4926-9DC2-0CB3BB1D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A2AA-8347-4981-8FF4-8684D195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BAA4-D9A7-4B3E-BE08-6BEEF449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BE8C-CAEF-41FC-8314-C1EA5D05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A8FD-B41C-4E0A-BA22-9955F601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CAE8-F2F2-4444-9A75-05DFDD8A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5490-720F-479D-93BA-C7440268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FF1-D3C1-4B3D-9C87-EBFBED13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D45-6C3F-4887-AE75-65A7C50C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6E0-2641-4EF4-8C53-8571E8A3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2D4-FF9D-4871-8593-560F739A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AA4-6D7F-499C-BC99-8897C94D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2650-E020-4241-A1B1-7FF95635B6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24B8-B090-4555-90CA-0E2B41289A9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716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000" spc="-1" strike="noStrike">
                <a:solidFill>
                  <a:srgbClr val="000000"/>
                </a:solidFill>
                <a:latin typeface="Verdana"/>
                <a:ea typeface="華康新綜藝體"/>
              </a:rPr>
              <a:t>構圖與色彩搭配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280" y="1825560"/>
            <a:ext cx="3071880" cy="4267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32360" y="1844640"/>
            <a:ext cx="3075120" cy="426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8360" y="333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5120" y="716040"/>
            <a:ext cx="5637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Arial"/>
                <a:ea typeface="華康古印體"/>
              </a:rPr>
              <a:t>食品包裝對比效果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  <a:ea typeface="華康古印體"/>
              </a:rPr>
              <a:t>茶包裝的冷暖效果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5080" y="2527200"/>
            <a:ext cx="3922560" cy="271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66640" y="2527200"/>
            <a:ext cx="392292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  <a:ea typeface="華康古印體"/>
              </a:rPr>
              <a:t>色彩平衡</a:t>
            </a: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1120" y="1752480"/>
            <a:ext cx="3693960" cy="426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59200" y="1752480"/>
            <a:ext cx="3694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38:02Z</dcterms:created>
  <dc:creator>maya</dc:creator>
  <dc:description/>
  <dc:language>en-US</dc:language>
  <cp:lastModifiedBy>kelly</cp:lastModifiedBy>
  <dcterms:modified xsi:type="dcterms:W3CDTF">2003-04-09T06:28:53Z</dcterms:modified>
  <cp:revision>29</cp:revision>
  <dc:subject/>
  <dc:title>構圖與色彩搭配</dc:title>
</cp:coreProperties>
</file>