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10234800" cy="709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hdr"/>
          </p:nvPr>
        </p:nvSpPr>
        <p:spPr>
          <a:xfrm>
            <a:off x="-360" y="0"/>
            <a:ext cx="4435560" cy="355680"/>
          </a:xfrm>
          <a:prstGeom prst="rect">
            <a:avLst/>
          </a:prstGeom>
          <a:noFill/>
          <a:ln w="0">
            <a:noFill/>
          </a:ln>
        </p:spPr>
        <p:txBody>
          <a:bodyPr lIns="106920" rIns="106920" tIns="53280" bIns="53280" anchor="t">
            <a:noAutofit/>
          </a:bodyPr>
          <a:p>
            <a:pPr marL="216000" indent="0">
              <a:buNone/>
              <a:tabLst>
                <a:tab algn="l" pos="0"/>
                <a:tab algn="l" pos="1068480"/>
                <a:tab algn="l" pos="2136600"/>
                <a:tab algn="l" pos="3205080"/>
                <a:tab algn="l" pos="4273560"/>
                <a:tab algn="l" pos="5342040"/>
                <a:tab algn="l" pos="6410160"/>
                <a:tab algn="l" pos="7478640"/>
                <a:tab algn="l" pos="8547120"/>
                <a:tab algn="l" pos="9615600"/>
                <a:tab algn="l" pos="10683720"/>
              </a:tabLst>
            </a:pPr>
            <a:r>
              <a:rPr b="0" lang="zh-TW" sz="1500" spc="-1" strike="noStrike">
                <a:solidFill>
                  <a:srgbClr val="000000"/>
                </a:solidFill>
                <a:latin typeface="Times New Roman"/>
              </a:rPr>
              <a:t>&lt;header&gt;</a:t>
            </a:r>
            <a:endParaRPr b="0" lang="en-US" sz="1500" spc="-1" strike="noStrike">
              <a:solidFill>
                <a:srgbClr val="000000"/>
              </a:solidFill>
              <a:latin typeface="Times New Roman"/>
            </a:endParaRPr>
          </a:p>
        </p:txBody>
      </p:sp>
      <p:sp>
        <p:nvSpPr>
          <p:cNvPr id="100" name="PlaceHolder 2"/>
          <p:cNvSpPr>
            <a:spLocks noGrp="1"/>
          </p:cNvSpPr>
          <p:nvPr>
            <p:ph type="dt" idx="7"/>
          </p:nvPr>
        </p:nvSpPr>
        <p:spPr>
          <a:xfrm>
            <a:off x="5799240" y="0"/>
            <a:ext cx="4435200" cy="355680"/>
          </a:xfrm>
          <a:prstGeom prst="rect">
            <a:avLst/>
          </a:prstGeom>
          <a:noFill/>
          <a:ln w="0">
            <a:noFill/>
          </a:ln>
        </p:spPr>
        <p:txBody>
          <a:bodyPr lIns="106920" rIns="106920" tIns="53280" bIns="53280" anchor="t">
            <a:noAutofit/>
          </a:bodyPr>
          <a:lstStyle>
            <a:lvl1pPr marL="216000" indent="0" algn="r">
              <a:buNone/>
              <a:tabLst>
                <a:tab algn="l" pos="0"/>
                <a:tab algn="l" pos="1068480"/>
                <a:tab algn="l" pos="2136600"/>
                <a:tab algn="l" pos="3205080"/>
                <a:tab algn="l" pos="4273560"/>
                <a:tab algn="l" pos="5342040"/>
                <a:tab algn="l" pos="6410160"/>
                <a:tab algn="l" pos="7478640"/>
                <a:tab algn="l" pos="8547120"/>
                <a:tab algn="l" pos="9615600"/>
                <a:tab algn="l" pos="10683720"/>
              </a:tabLst>
              <a:defRPr b="0" lang="zh-TW" sz="1500" spc="-1" strike="noStrike">
                <a:solidFill>
                  <a:srgbClr val="000000"/>
                </a:solidFill>
                <a:latin typeface="Times New Roman"/>
              </a:defRPr>
            </a:lvl1pPr>
          </a:lstStyle>
          <a:p>
            <a:pPr marL="216000" indent="0" algn="r">
              <a:buNone/>
              <a:tabLst>
                <a:tab algn="l" pos="0"/>
                <a:tab algn="l" pos="1068480"/>
                <a:tab algn="l" pos="2136600"/>
                <a:tab algn="l" pos="3205080"/>
                <a:tab algn="l" pos="4273560"/>
                <a:tab algn="l" pos="5342040"/>
                <a:tab algn="l" pos="6410160"/>
                <a:tab algn="l" pos="7478640"/>
                <a:tab algn="l" pos="8547120"/>
                <a:tab algn="l" pos="9615600"/>
                <a:tab algn="l" pos="10683720"/>
              </a:tabLst>
            </a:pPr>
            <a:r>
              <a:rPr b="0" lang="zh-TW"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101" name="PlaceHolder 3"/>
          <p:cNvSpPr>
            <a:spLocks noGrp="1"/>
          </p:cNvSpPr>
          <p:nvPr>
            <p:ph type="sldImg"/>
          </p:nvPr>
        </p:nvSpPr>
        <p:spPr>
          <a:xfrm>
            <a:off x="3344760" y="533160"/>
            <a:ext cx="3549600" cy="2662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1364760" y="3371400"/>
            <a:ext cx="7504200" cy="3194280"/>
          </a:xfrm>
          <a:prstGeom prst="rect">
            <a:avLst/>
          </a:prstGeom>
          <a:noFill/>
          <a:ln w="0">
            <a:noFill/>
          </a:ln>
        </p:spPr>
        <p:txBody>
          <a:bodyPr lIns="106920" rIns="106920" tIns="53280" bIns="53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6744960"/>
            <a:ext cx="4435560" cy="353880"/>
          </a:xfrm>
          <a:prstGeom prst="rect">
            <a:avLst/>
          </a:prstGeom>
          <a:noFill/>
          <a:ln w="0">
            <a:noFill/>
          </a:ln>
        </p:spPr>
        <p:txBody>
          <a:bodyPr lIns="106920" rIns="106920" tIns="53280" bIns="53280" anchor="b">
            <a:noAutofit/>
          </a:bodyPr>
          <a:lstStyle>
            <a:lvl1pPr marL="216000" indent="0">
              <a:buNone/>
              <a:tabLst>
                <a:tab algn="l" pos="0"/>
                <a:tab algn="l" pos="1068480"/>
                <a:tab algn="l" pos="2136600"/>
                <a:tab algn="l" pos="3205080"/>
                <a:tab algn="l" pos="4273560"/>
                <a:tab algn="l" pos="5342040"/>
                <a:tab algn="l" pos="6410160"/>
                <a:tab algn="l" pos="7478640"/>
                <a:tab algn="l" pos="8547120"/>
                <a:tab algn="l" pos="9615600"/>
                <a:tab algn="l" pos="10683720"/>
              </a:tabLst>
              <a:defRPr b="0" lang="zh-TW" sz="1500" spc="-1" strike="noStrike">
                <a:solidFill>
                  <a:srgbClr val="000000"/>
                </a:solidFill>
                <a:latin typeface="Times New Roman"/>
              </a:defRPr>
            </a:lvl1pPr>
          </a:lstStyle>
          <a:p>
            <a:pPr marL="216000" indent="0">
              <a:buNone/>
              <a:tabLst>
                <a:tab algn="l" pos="0"/>
                <a:tab algn="l" pos="1068480"/>
                <a:tab algn="l" pos="2136600"/>
                <a:tab algn="l" pos="3205080"/>
                <a:tab algn="l" pos="4273560"/>
                <a:tab algn="l" pos="5342040"/>
                <a:tab algn="l" pos="6410160"/>
                <a:tab algn="l" pos="7478640"/>
                <a:tab algn="l" pos="8547120"/>
                <a:tab algn="l" pos="9615600"/>
                <a:tab algn="l" pos="10683720"/>
              </a:tabLst>
            </a:pPr>
            <a:r>
              <a:rPr b="0" lang="zh-TW"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104" name="PlaceHolder 6"/>
          <p:cNvSpPr>
            <a:spLocks noGrp="1"/>
          </p:cNvSpPr>
          <p:nvPr>
            <p:ph type="sldNum" idx="9"/>
          </p:nvPr>
        </p:nvSpPr>
        <p:spPr>
          <a:xfrm>
            <a:off x="5799240" y="6744960"/>
            <a:ext cx="4435200" cy="353880"/>
          </a:xfrm>
          <a:prstGeom prst="rect">
            <a:avLst/>
          </a:prstGeom>
          <a:noFill/>
          <a:ln w="0">
            <a:noFill/>
          </a:ln>
        </p:spPr>
        <p:txBody>
          <a:bodyPr lIns="106920" rIns="106920" tIns="53280" bIns="53280" anchor="b">
            <a:noAutofit/>
          </a:bodyPr>
          <a:lstStyle>
            <a:lvl1pPr marL="216000" indent="0" algn="r">
              <a:buNone/>
              <a:tabLst>
                <a:tab algn="l" pos="0"/>
                <a:tab algn="l" pos="1068480"/>
                <a:tab algn="l" pos="2136600"/>
                <a:tab algn="l" pos="3205080"/>
                <a:tab algn="l" pos="4273560"/>
                <a:tab algn="l" pos="5342040"/>
                <a:tab algn="l" pos="6410160"/>
                <a:tab algn="l" pos="7478640"/>
                <a:tab algn="l" pos="8547120"/>
                <a:tab algn="l" pos="9615600"/>
                <a:tab algn="l" pos="10683720"/>
              </a:tabLst>
              <a:defRPr b="0" lang="zh-TW" sz="1500" spc="-1" strike="noStrike">
                <a:solidFill>
                  <a:srgbClr val="000000"/>
                </a:solidFill>
                <a:latin typeface="Times New Roman"/>
              </a:defRPr>
            </a:lvl1pPr>
          </a:lstStyle>
          <a:p>
            <a:pPr marL="216000" indent="0" algn="r">
              <a:buNone/>
              <a:tabLst>
                <a:tab algn="l" pos="0"/>
                <a:tab algn="l" pos="1068480"/>
                <a:tab algn="l" pos="2136600"/>
                <a:tab algn="l" pos="3205080"/>
                <a:tab algn="l" pos="4273560"/>
                <a:tab algn="l" pos="5342040"/>
                <a:tab algn="l" pos="6410160"/>
                <a:tab algn="l" pos="7478640"/>
                <a:tab algn="l" pos="8547120"/>
                <a:tab algn="l" pos="9615600"/>
                <a:tab algn="l" pos="10683720"/>
              </a:tabLst>
            </a:pPr>
            <a:fld id="{85F1327A-ABE9-4C66-BA51-87BF63131DF5}" type="slidenum">
              <a:rPr b="0" lang="zh-TW"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3344760" y="533520"/>
            <a:ext cx="3549600" cy="2662200"/>
          </a:xfrm>
          <a:prstGeom prst="rect">
            <a:avLst/>
          </a:prstGeom>
          <a:ln w="0">
            <a:noFill/>
          </a:ln>
        </p:spPr>
      </p:sp>
      <p:sp>
        <p:nvSpPr>
          <p:cNvPr id="112" name="PlaceHolder 2"/>
          <p:cNvSpPr>
            <a:spLocks noGrp="1"/>
          </p:cNvSpPr>
          <p:nvPr>
            <p:ph type="body"/>
          </p:nvPr>
        </p:nvSpPr>
        <p:spPr>
          <a:xfrm>
            <a:off x="1364760" y="3371400"/>
            <a:ext cx="7504200" cy="3194280"/>
          </a:xfrm>
          <a:prstGeom prst="rect">
            <a:avLst/>
          </a:prstGeom>
          <a:solidFill>
            <a:srgbClr val="ffffff"/>
          </a:solidFill>
          <a:ln w="9360">
            <a:solidFill>
              <a:srgbClr val="000000"/>
            </a:solidFill>
            <a:miter/>
          </a:ln>
        </p:spPr>
        <p:txBody>
          <a:bodyPr lIns="106920" rIns="106920" tIns="53280" bIns="53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a50a1"/>
                </a:solidFill>
                <a:latin typeface="Arial"/>
                <a:ea typeface="Times New Roman"/>
              </a:rPr>
              <a:t>This is the “Presentation title” page.  Type the title of your presentation in the "Presentation title” fiel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56C38-218E-40FD-BE6F-F4CA6CFF3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EDD29-D9C3-4775-BB3D-679CE9444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20AD0-775F-44B9-B244-740A3CA30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B9DBD-CF07-44E9-97B9-BA92CFE13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4C664-A834-48A5-BA4D-F8704E39B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0372D-9BA6-4E6B-8F2C-02D0320B4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7AE39-1D0D-40D7-B93C-78B23CEB0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117AF-4CB6-4356-B6E3-65C4F9B80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BB5FA-E0C0-4FEC-B11F-C9C4A8F50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14FC6-CD0F-42BE-9DF7-8D7F4AEFA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FD1C3-8776-4524-8F07-EE52C4CA8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71C81-1276-4E28-8FCA-F422EA00E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58373-ACCE-45E8-BCC9-A54245FF0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9126-2C7E-4602-B5F4-E0D4E5CF4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1ABFF-6EDC-4F01-8B06-176D67A8F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4EFB4-5429-4A31-B49B-7339FE88E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17943-29AA-49F6-99A7-165B62EB9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77E7-0EC7-41AE-B9AD-B0B67AA35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2DFD4-5A60-4D34-AEBC-1342E62B4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BD1A-F8CF-4C6E-910C-EF70FC7B8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BDA87-C2CD-41E5-84CF-E35740E4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E068D-1DC8-47E0-9585-C4640851F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C167-D725-4DA6-B5CE-D8AE6ACF8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9E6AE-E086-40A1-8E7D-A877598A9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D9C4-B33C-4943-B5BD-89BE38D532DF}" type="slidenum">
              <a:rPr b="0" lang="zh-TW"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17C0-72CD-4B59-9478-780436D8BAD1}" type="slidenum">
              <a:rPr b="0" lang="zh-TW"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2124000" y="2349360"/>
            <a:ext cx="532764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0">
                  <a:noFill/>
                </a:ln>
                <a:blipFill rotWithShape="0">
                  <a:blip r:embed="rId2"/>
                  <a:srcRect/>
                  <a:stretch/>
                </a:blipFill>
                <a:effectLst>
                  <a:outerShdw dist="17819" dir="2700000" blurRad="0" rotWithShape="0">
                    <a:srgbClr val="c0c0c0">
                      <a:alpha val="80000"/>
                    </a:srgbClr>
                  </a:outerShdw>
                </a:effectLst>
                <a:latin typeface="Arial Black"/>
              </a:rPr>
              <a:t>SmarTeam</a:t>
            </a:r>
            <a:endParaRPr b="0" i="1" lang="en-US" sz="5400" spc="1" strike="noStrike">
              <a:ln w="0">
                <a:noFill/>
              </a:ln>
              <a:blipFill rotWithShape="0">
                <a:blip r:embed="rId3"/>
                <a:srcRect/>
                <a:stretch/>
              </a:blipFill>
              <a:effectLst>
                <a:outerShdw dist="17819" dir="2700000" blurRad="0" rotWithShape="0">
                  <a:srgbClr val="c0c0c0">
                    <a:alpha val="80000"/>
                  </a:srgbClr>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685800" y="2209680"/>
            <a:ext cx="1143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a:t>
            </a:r>
            <a:endParaRPr b="0" lang="en-US" sz="2800" spc="-1" strike="noStrike">
              <a:solidFill>
                <a:srgbClr val="ffffff"/>
              </a:solidFill>
              <a:latin typeface="Times New Roman"/>
            </a:endParaRPr>
          </a:p>
        </p:txBody>
      </p:sp>
      <p:sp>
        <p:nvSpPr>
          <p:cNvPr id="107" name=""/>
          <p:cNvSpPr/>
          <p:nvPr/>
        </p:nvSpPr>
        <p:spPr>
          <a:xfrm>
            <a:off x="6705720" y="5867280"/>
            <a:ext cx="1523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PDM</a:t>
            </a:r>
            <a:endParaRPr b="0" lang="en-US" sz="4400" spc="-1" strike="noStrike">
              <a:solidFill>
                <a:srgbClr val="ffffff"/>
              </a:solidFill>
              <a:latin typeface="Times New Roman"/>
            </a:endParaRPr>
          </a:p>
        </p:txBody>
      </p:sp>
      <p:sp>
        <p:nvSpPr>
          <p:cNvPr id="108" name=""/>
          <p:cNvSpPr/>
          <p:nvPr/>
        </p:nvSpPr>
        <p:spPr>
          <a:xfrm>
            <a:off x="1828800" y="2209680"/>
            <a:ext cx="41911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何謂產品資料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為何要做產品資料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如何導入產品資料管理</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rPr>
              <a:t>何時是導入的最佳時機</a:t>
            </a:r>
            <a:endParaRPr b="0" lang="en-US" sz="2800" spc="-1" strike="noStrike">
              <a:solidFill>
                <a:srgbClr val="ffffff"/>
              </a:solidFill>
              <a:latin typeface="Times New Roman"/>
            </a:endParaRPr>
          </a:p>
        </p:txBody>
      </p:sp>
      <p:sp>
        <p:nvSpPr>
          <p:cNvPr id="109" name=""/>
          <p:cNvSpPr/>
          <p:nvPr/>
        </p:nvSpPr>
        <p:spPr>
          <a:xfrm>
            <a:off x="380880" y="304920"/>
            <a:ext cx="4419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duct Data Management</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609480" y="1219320"/>
            <a:ext cx="746784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Tahoma"/>
                <a:ea typeface="Arial Unicode MS"/>
              </a:rPr>
              <a:t>Why</a:t>
            </a:r>
            <a:r>
              <a:rPr b="1" lang="zh-TW" sz="2800" spc="-1" strike="noStrike">
                <a:solidFill>
                  <a:srgbClr val="ff0000"/>
                </a:solidFill>
                <a:latin typeface="Tahoma"/>
                <a:ea typeface="Arial"/>
              </a:rPr>
              <a:t> </a:t>
            </a:r>
            <a:r>
              <a:rPr b="1" i="1" lang="zh-TW" sz="2800" spc="-1" strike="noStrike">
                <a:solidFill>
                  <a:srgbClr val="ff0000"/>
                </a:solidFill>
                <a:latin typeface="Tahoma"/>
                <a:ea typeface="Arial Unicode MS"/>
              </a:rPr>
              <a:t>SmarTeam</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新細明體"/>
              </a:rPr>
              <a:t>企業對協同設計作業的需求以涵蓋範圍的規模來區分可從小組、部門、多</a:t>
            </a:r>
            <a:r>
              <a:rPr b="0" lang="zh-TW" sz="2400" spc="-1" strike="noStrike">
                <a:solidFill>
                  <a:srgbClr val="ffffff"/>
                </a:solidFill>
                <a:latin typeface="Arial"/>
                <a:ea typeface="Arial"/>
              </a:rPr>
              <a:t>(</a:t>
            </a:r>
            <a:r>
              <a:rPr b="0" lang="zh-TW" sz="2400" spc="-1" strike="noStrike">
                <a:solidFill>
                  <a:srgbClr val="ffffff"/>
                </a:solidFill>
                <a:latin typeface="新細明體"/>
              </a:rPr>
              <a:t>跨</a:t>
            </a:r>
            <a:r>
              <a:rPr b="0" lang="zh-TW" sz="2400" spc="-1" strike="noStrike">
                <a:solidFill>
                  <a:srgbClr val="ffffff"/>
                </a:solidFill>
                <a:latin typeface="Arial"/>
                <a:ea typeface="Arial"/>
              </a:rPr>
              <a:t>)</a:t>
            </a:r>
            <a:r>
              <a:rPr b="0" lang="zh-TW" sz="2400" spc="-1" strike="noStrike">
                <a:solidFill>
                  <a:srgbClr val="ffffff"/>
                </a:solidFill>
                <a:latin typeface="新細明體"/>
              </a:rPr>
              <a:t>部門、整體企業以及企業體所處的供應鏈</a:t>
            </a:r>
            <a:r>
              <a:rPr b="0" lang="zh-TW" sz="2400" spc="-1" strike="noStrike">
                <a:solidFill>
                  <a:srgbClr val="ffffff"/>
                </a:solidFill>
                <a:latin typeface="Arial"/>
                <a:ea typeface="Arial"/>
              </a:rPr>
              <a:t>(Supply Chain)</a:t>
            </a:r>
            <a:r>
              <a:rPr b="0" lang="zh-TW" sz="2400" spc="-1" strike="noStrike">
                <a:solidFill>
                  <a:srgbClr val="ffffff"/>
                </a:solidFill>
                <a:latin typeface="新細明體"/>
              </a:rPr>
              <a:t>上。在全球化的趨勢洪流下，供應鏈中要求具備協同設計作業功能日趨明顯與迫切。諸如：委外設計</a:t>
            </a:r>
            <a:r>
              <a:rPr b="0" lang="zh-TW" sz="2400" spc="-1" strike="noStrike">
                <a:solidFill>
                  <a:srgbClr val="ffffff"/>
                </a:solidFill>
                <a:latin typeface="Arial"/>
                <a:ea typeface="Arial"/>
              </a:rPr>
              <a:t>- </a:t>
            </a:r>
            <a:r>
              <a:rPr b="0" lang="zh-TW" sz="2400" spc="-1" strike="noStrike">
                <a:solidFill>
                  <a:srgbClr val="ffffff"/>
                </a:solidFill>
                <a:latin typeface="新細明體"/>
              </a:rPr>
              <a:t>造型設計、模具設計和跨國製造等業務不斷地增加；在及時上市</a:t>
            </a:r>
            <a:r>
              <a:rPr b="0" lang="zh-TW" sz="2400" spc="-1" strike="noStrike">
                <a:solidFill>
                  <a:srgbClr val="ffffff"/>
                </a:solidFill>
                <a:latin typeface="Arial"/>
                <a:ea typeface="Arial"/>
              </a:rPr>
              <a:t>(Time To Market)</a:t>
            </a:r>
            <a:r>
              <a:rPr b="0" lang="zh-TW" sz="2400" spc="-1" strike="noStrike">
                <a:solidFill>
                  <a:srgbClr val="ffffff"/>
                </a:solidFill>
                <a:latin typeface="新細明體"/>
              </a:rPr>
              <a:t>的時效要求下，位於供應鏈上游的企業體經常要即時掌握下游企業體所發生的設計變更之內容以及變更所影響的範疇與管制要點。</a:t>
            </a:r>
            <a:r>
              <a:rPr b="0" lang="zh-TW"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7T08:14:18Z</dcterms:created>
  <dc:creator>Shen</dc:creator>
  <dc:description/>
  <dc:language>en-US</dc:language>
  <cp:lastModifiedBy>kelly</cp:lastModifiedBy>
  <dcterms:modified xsi:type="dcterms:W3CDTF">2003-09-04T03:49:30Z</dcterms:modified>
  <cp:revision>101</cp:revision>
  <dc:subject/>
  <dc:title>PowerPoint 簡報</dc:title>
</cp:coreProperties>
</file>